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645-4301-4271-BD78-D566321A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6060-A80D-456C-9CA7-BAA82125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9CA-1667-45BF-B66D-B055E62C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EC0-205D-4054-B1BF-1F379573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0EBA-3226-4DB9-81DF-768A51DD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E6A8-FA61-41F2-91B5-C0C39D02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9F84-E919-48CD-A149-C54638CF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63CF-2E94-4BC1-8B3D-0FEAE140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92BD-009E-42C4-959F-AC90C39D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067C-F0DC-46B1-A664-54067248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024B-075C-4ECE-AF46-125ABB54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4E7-80B8-4143-8D48-BC4D9A1C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616F-8577-41AE-94F4-5F29633D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4079-FE43-43DC-A4C9-D1159057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9B05-D8B5-4D43-BE69-57E6E38B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8C4D-48E5-44C4-8C42-A0834399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50B4-B6E1-401B-B77E-0F635D94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B33-11E0-449E-B770-414CCE3C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AA6-6795-4A01-9977-9293233F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B5F-4CE5-44DE-86CB-812B82F7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845-DA6F-4DBC-98FD-76CB1A7A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8A4-070B-4667-A339-31E645DD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AE8-34F6-498B-B885-6C6DD64F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D111-B47B-429D-8012-C576127B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0748-F38B-4AF1-8FEA-75F8FA12B7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608D-4A32-4B70-AB66-538583E894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53" name="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docs.google.com/drawings/d/1f1s1drjo8qMJ-vWR3BQgsfRbH2DO0E43Xb01eRddWcg/edit?hl=en_GB&amp;authkey=CN_oqbYK&amp;pli=1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voin arviointi erityistilanteessa. Tilannetiedotus Opasnetiss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uni Tuomisto, THL, Kuop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usta ruutu, esityksen lopp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utkimuksen ja päätöksenteon rajapinnan murro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inteinen ajattelu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iantuntija mallittaa monimutkaisia ilmiöitä omaksi (ja kollegoiden) tiedoksi. Viisastuttuaan hän osaa kirjoittaa yleistajuisia raportteja poliitikoi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iantuntija ei osallistu politiikkaan (IPCC: me annamme tietoa, emme suosituks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Uusi ajattelu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llitus on jaetun ymmärryksen luomista arvioimalla määrällisesti asioita yhdess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liittinen keskustelu on avointa hypoteesien esittämistä siitä, millä toimilla saavutetaan tavoitte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imiva yhteisö ei tarvitse T-P-rajapinta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net roolit säilyvät: tutkijan tehtävänä on osata asiat, poliitikon tehtävänä tehdä päätök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eskeisiä periaatteita muutoksen edistämiseks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Heti kaikki tieto tänne meil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tomonopolit on murrettava, varsinkin päätöksentekoon vaikuttavan tied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Vertaisarviointi tehdään jälkikäteen – jos asia osoittautuu tärkeäks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Yhtä asiaa koskeva tieto pistetään aina yhteen ja samaan paikkaan (tieteen Wikiped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teen menetelmä = avoin kriittinen keskustelu hypoteesien vahvuuksista ja hylkäämisestä pitää ottaa käyttöö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teessä (milloin sinun oman julkaisusi hypoteeseja on julkisesti hylätty kriittisen keskustelun tuloksena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litiikassa (on tyhmää äänestää faktois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aikelle tiedolle yhtenäinen, avoin tietoraken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n open assessmen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ealth impact of radon i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680" y="1413000"/>
            <a:ext cx="9139320" cy="2336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6411E-006 L 0.00035 -0.56868 E">
                                      <p:cBhvr>
                                        <p:cTn id="3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56868 L 0.00434 -1.32377 E">
                                      <p:cBhvr>
                                        <p:cTn id="36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1.32377 L -0.00017 -1.90726 E">
                                      <p:cBhvr>
                                        <p:cTn id="40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1.90726 L -0.00017 -2.57215 E">
                                      <p:cBhvr>
                                        <p:cTn id="4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 variable in a model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 statement and resolution of a discussio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Is Pandemrix a safe vacci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143"/>
                </a:solidFill>
                <a:latin typeface="Arial"/>
              </a:rPr>
              <a:t>Opasnet: verkkotyötila avointen arviointien ja jaetun ymmärryksen luomiseen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wiki: käyttöliittymä osallistumiseen ja kaikkiin toiminnallisuuksi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skustelu- ja kommentointisivut: keskustelua varsinaises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kanta: tietokanta kaikenlaisen taulukkodatan tallentamiseen ja käyttämi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-tools: tilasto- ja laskentaohjelma R kaikkeen laskentaan ja tulosten kuvaami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tiedosto: tiedostonhallintajärjestelmä taustadokumenteille ja muille tiedostoil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7bc143"/>
                </a:solidFill>
                <a:latin typeface="Arial"/>
              </a:rPr>
              <a:t>How Opasnet helps in assessments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1200" y="1484280"/>
            <a:ext cx="6621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s://docs.google.com/drawings/d/1f1s1drjo8qMJ-vWR3BQgsfRbH2DO0E43Xb01eRddWcg/edit?hl=en_GB&amp;authkey=CN_oqbYK&amp;pli=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33520" y="1341360"/>
            <a:ext cx="76579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voimen saatavuuden periaat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to jostakin ilmiöstä on avoimesti saatavilla jos ja vain j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dunmies voi kymmenessä minuutis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ytä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a vartis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mmärtä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eteellisesti pätevän, ajankohtaisen kuvauksen ilmiön tilasta ja kuvauksen siitä, miten tilanne muuttuisi jos ilmiön jonk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ytekijän vaiku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uttuisi, 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ama tieto on koneluettavassa muodossa standardirajapinnan yli internetissä vapaan käyttöoikeuden piiriss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riskinhallinta: yleiskuv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26920" y="1989000"/>
            <a:ext cx="7632720" cy="4176720"/>
            <a:chOff x="826920" y="1989000"/>
            <a:chExt cx="7632720" cy="4176720"/>
          </a:xfrm>
        </p:grpSpPr>
        <p:sp>
          <p:nvSpPr>
            <p:cNvPr id="96" name=""/>
            <p:cNvSpPr/>
            <p:nvPr/>
          </p:nvSpPr>
          <p:spPr>
            <a:xfrm>
              <a:off x="826920" y="1989000"/>
              <a:ext cx="7632720" cy="417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484000" y="2205000"/>
              <a:ext cx="5329800" cy="3527640"/>
              <a:chOff x="2484000" y="2205000"/>
              <a:chExt cx="5329800" cy="35276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771280" y="4221000"/>
                <a:ext cx="505440" cy="1440000"/>
                <a:chOff x="2771280" y="4221000"/>
                <a:chExt cx="505440" cy="14400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2835000" y="4221000"/>
                  <a:ext cx="37836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024000" y="459828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2866320" y="5146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024000" y="5146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2771280" y="5661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182040" y="5661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2802960" y="4735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024000" y="4735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7308360" y="3284640"/>
                <a:ext cx="505440" cy="1439640"/>
                <a:chOff x="7308360" y="3284640"/>
                <a:chExt cx="505440" cy="14396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7372080" y="3284640"/>
                  <a:ext cx="378360" cy="376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561080" y="366156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>
                  <a:off x="7403400" y="420948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561080" y="420948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7308360" y="472428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719120" y="472428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7340040" y="379836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561080" y="379836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484000" y="2637000"/>
                <a:ext cx="505440" cy="1439640"/>
                <a:chOff x="2484000" y="2637000"/>
                <a:chExt cx="505440" cy="14396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547720" y="2637000"/>
                  <a:ext cx="378360" cy="376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736720" y="3013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2579040" y="356184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736720" y="356184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2484000" y="407664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894760" y="407664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2515680" y="3150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736720" y="3150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419640" y="2349360"/>
                <a:ext cx="504360" cy="1440000"/>
                <a:chOff x="3419640" y="2349360"/>
                <a:chExt cx="504360" cy="1440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483000" y="234936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672000" y="272664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3513960" y="327456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672000" y="327456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3419640" y="378936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829680" y="378936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3450960" y="286344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672000" y="286344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716000" y="2205000"/>
                <a:ext cx="505440" cy="1440000"/>
                <a:chOff x="4716000" y="2205000"/>
                <a:chExt cx="505440" cy="1440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779720" y="2205000"/>
                  <a:ext cx="37836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968720" y="258228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>
                  <a:off x="4811040" y="3130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968720" y="3130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4716000" y="3645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126760" y="3645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4747680" y="2719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968720" y="2719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96000" y="4292640"/>
                <a:ext cx="504360" cy="1440000"/>
                <a:chOff x="5796000" y="4292640"/>
                <a:chExt cx="504360" cy="1440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859360" y="429264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48360" y="4669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5890320" y="521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48360" y="521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5796000" y="573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206040" y="573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5827320" y="480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048360" y="480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372360" y="2852640"/>
                <a:ext cx="504360" cy="1440000"/>
                <a:chOff x="6372360" y="2852640"/>
                <a:chExt cx="504360" cy="1440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435720" y="285264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624720" y="3229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6466680" y="377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624720" y="377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6372360" y="429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782400" y="429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6403680" y="336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624720" y="336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1" name=""/>
          <p:cNvGrpSpPr/>
          <p:nvPr/>
        </p:nvGrpSpPr>
        <p:grpSpPr>
          <a:xfrm>
            <a:off x="3214800" y="3933720"/>
            <a:ext cx="2220840" cy="1656000"/>
            <a:chOff x="3214800" y="3933720"/>
            <a:chExt cx="2220840" cy="1656000"/>
          </a:xfrm>
        </p:grpSpPr>
        <p:grpSp>
          <p:nvGrpSpPr>
            <p:cNvPr id="162" name=""/>
            <p:cNvGrpSpPr/>
            <p:nvPr/>
          </p:nvGrpSpPr>
          <p:grpSpPr>
            <a:xfrm>
              <a:off x="4284720" y="3933720"/>
              <a:ext cx="1150920" cy="1656000"/>
              <a:chOff x="4284720" y="3933720"/>
              <a:chExt cx="1150920" cy="1656000"/>
            </a:xfrm>
          </p:grpSpPr>
          <p:sp>
            <p:nvSpPr>
              <p:cNvPr id="163" name=""/>
              <p:cNvSpPr/>
              <p:nvPr/>
            </p:nvSpPr>
            <p:spPr>
              <a:xfrm>
                <a:off x="4284720" y="3933720"/>
                <a:ext cx="1150920" cy="165600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43280" y="443700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00720" y="4149720"/>
                <a:ext cx="6476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72000" y="5013360"/>
                <a:ext cx="647640" cy="43164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43280" y="5157720"/>
                <a:ext cx="505080" cy="216000"/>
              </a:xfrm>
              <a:custGeom>
                <a:avLst/>
                <a:gdLst/>
                <a:ahLst/>
                <a:rect l="l" t="t" r="r" b="b"/>
                <a:pathLst>
                  <a:path w="318" h="136">
                    <a:moveTo>
                      <a:pt x="0" y="136"/>
                    </a:moveTo>
                    <a:lnTo>
                      <a:pt x="91" y="0"/>
                    </a:lnTo>
                    <a:lnTo>
                      <a:pt x="136" y="90"/>
                    </a:lnTo>
                    <a:lnTo>
                      <a:pt x="318" y="45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643280" y="458136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643280" y="472428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643280" y="486900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3214800" y="4037040"/>
              <a:ext cx="1012680" cy="150840"/>
            </a:xfrm>
            <a:custGeom>
              <a:avLst/>
              <a:gdLst/>
              <a:ahLst/>
              <a:rect l="l" t="t" r="r" b="b"/>
              <a:pathLst>
                <a:path w="638" h="95">
                  <a:moveTo>
                    <a:pt x="0" y="95"/>
                  </a:moveTo>
                  <a:cubicBezTo>
                    <a:pt x="45" y="80"/>
                    <a:pt x="164" y="6"/>
                    <a:pt x="270" y="3"/>
                  </a:cubicBezTo>
                  <a:cubicBezTo>
                    <a:pt x="376" y="0"/>
                    <a:pt x="561" y="62"/>
                    <a:pt x="638" y="77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032480" y="3680640"/>
            <a:ext cx="1494720" cy="1436040"/>
            <a:chOff x="1032480" y="3680640"/>
            <a:chExt cx="1494720" cy="1436040"/>
          </a:xfrm>
        </p:grpSpPr>
        <p:sp>
          <p:nvSpPr>
            <p:cNvPr id="173" name=""/>
            <p:cNvSpPr/>
            <p:nvPr/>
          </p:nvSpPr>
          <p:spPr>
            <a:xfrm rot="5853000">
              <a:off x="1259280" y="3572640"/>
              <a:ext cx="792000" cy="1152360"/>
            </a:xfrm>
            <a:prstGeom prst="can">
              <a:avLst>
                <a:gd name="adj" fmla="val 25000"/>
              </a:avLst>
            </a:prstGeom>
            <a:solidFill>
              <a:srgbClr val="7bc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49480" y="4483080"/>
              <a:ext cx="477720" cy="633600"/>
            </a:xfrm>
            <a:custGeom>
              <a:avLst/>
              <a:gdLst/>
              <a:ahLst/>
              <a:rect l="l" t="t" r="r" b="b"/>
              <a:pathLst>
                <a:path w="301" h="399">
                  <a:moveTo>
                    <a:pt x="0" y="0"/>
                  </a:moveTo>
                  <a:cubicBezTo>
                    <a:pt x="19" y="3"/>
                    <a:pt x="40" y="1"/>
                    <a:pt x="56" y="10"/>
                  </a:cubicBezTo>
                  <a:cubicBezTo>
                    <a:pt x="66" y="16"/>
                    <a:pt x="73" y="105"/>
                    <a:pt x="75" y="112"/>
                  </a:cubicBezTo>
                  <a:cubicBezTo>
                    <a:pt x="84" y="147"/>
                    <a:pt x="122" y="148"/>
                    <a:pt x="56" y="130"/>
                  </a:cubicBezTo>
                  <a:cubicBezTo>
                    <a:pt x="50" y="121"/>
                    <a:pt x="33" y="112"/>
                    <a:pt x="38" y="102"/>
                  </a:cubicBezTo>
                  <a:cubicBezTo>
                    <a:pt x="42" y="93"/>
                    <a:pt x="72" y="105"/>
                    <a:pt x="65" y="112"/>
                  </a:cubicBezTo>
                  <a:cubicBezTo>
                    <a:pt x="51" y="126"/>
                    <a:pt x="28" y="124"/>
                    <a:pt x="10" y="130"/>
                  </a:cubicBezTo>
                  <a:cubicBezTo>
                    <a:pt x="1" y="133"/>
                    <a:pt x="38" y="121"/>
                    <a:pt x="38" y="121"/>
                  </a:cubicBezTo>
                  <a:cubicBezTo>
                    <a:pt x="41" y="112"/>
                    <a:pt x="54" y="100"/>
                    <a:pt x="47" y="93"/>
                  </a:cubicBezTo>
                  <a:cubicBezTo>
                    <a:pt x="40" y="86"/>
                    <a:pt x="21" y="92"/>
                    <a:pt x="19" y="102"/>
                  </a:cubicBezTo>
                  <a:cubicBezTo>
                    <a:pt x="16" y="113"/>
                    <a:pt x="28" y="126"/>
                    <a:pt x="38" y="130"/>
                  </a:cubicBezTo>
                  <a:cubicBezTo>
                    <a:pt x="61" y="139"/>
                    <a:pt x="87" y="137"/>
                    <a:pt x="112" y="140"/>
                  </a:cubicBezTo>
                  <a:cubicBezTo>
                    <a:pt x="132" y="201"/>
                    <a:pt x="78" y="174"/>
                    <a:pt x="38" y="167"/>
                  </a:cubicBezTo>
                  <a:cubicBezTo>
                    <a:pt x="16" y="136"/>
                    <a:pt x="6" y="140"/>
                    <a:pt x="47" y="130"/>
                  </a:cubicBezTo>
                  <a:cubicBezTo>
                    <a:pt x="62" y="126"/>
                    <a:pt x="78" y="124"/>
                    <a:pt x="93" y="121"/>
                  </a:cubicBezTo>
                  <a:cubicBezTo>
                    <a:pt x="87" y="112"/>
                    <a:pt x="70" y="103"/>
                    <a:pt x="75" y="93"/>
                  </a:cubicBezTo>
                  <a:cubicBezTo>
                    <a:pt x="80" y="84"/>
                    <a:pt x="97" y="94"/>
                    <a:pt x="103" y="102"/>
                  </a:cubicBezTo>
                  <a:cubicBezTo>
                    <a:pt x="111" y="112"/>
                    <a:pt x="102" y="132"/>
                    <a:pt x="112" y="140"/>
                  </a:cubicBezTo>
                  <a:cubicBezTo>
                    <a:pt x="124" y="150"/>
                    <a:pt x="143" y="146"/>
                    <a:pt x="158" y="149"/>
                  </a:cubicBezTo>
                  <a:cubicBezTo>
                    <a:pt x="149" y="155"/>
                    <a:pt x="140" y="162"/>
                    <a:pt x="130" y="167"/>
                  </a:cubicBezTo>
                  <a:cubicBezTo>
                    <a:pt x="121" y="171"/>
                    <a:pt x="105" y="168"/>
                    <a:pt x="103" y="177"/>
                  </a:cubicBezTo>
                  <a:cubicBezTo>
                    <a:pt x="97" y="204"/>
                    <a:pt x="137" y="210"/>
                    <a:pt x="149" y="214"/>
                  </a:cubicBezTo>
                  <a:cubicBezTo>
                    <a:pt x="159" y="244"/>
                    <a:pt x="148" y="283"/>
                    <a:pt x="168" y="307"/>
                  </a:cubicBezTo>
                  <a:cubicBezTo>
                    <a:pt x="176" y="317"/>
                    <a:pt x="193" y="301"/>
                    <a:pt x="205" y="298"/>
                  </a:cubicBezTo>
                  <a:cubicBezTo>
                    <a:pt x="161" y="268"/>
                    <a:pt x="165" y="235"/>
                    <a:pt x="149" y="186"/>
                  </a:cubicBezTo>
                  <a:cubicBezTo>
                    <a:pt x="152" y="214"/>
                    <a:pt x="148" y="244"/>
                    <a:pt x="158" y="270"/>
                  </a:cubicBezTo>
                  <a:cubicBezTo>
                    <a:pt x="162" y="279"/>
                    <a:pt x="179" y="272"/>
                    <a:pt x="186" y="279"/>
                  </a:cubicBezTo>
                  <a:cubicBezTo>
                    <a:pt x="193" y="286"/>
                    <a:pt x="186" y="303"/>
                    <a:pt x="195" y="307"/>
                  </a:cubicBezTo>
                  <a:cubicBezTo>
                    <a:pt x="221" y="317"/>
                    <a:pt x="251" y="313"/>
                    <a:pt x="279" y="316"/>
                  </a:cubicBezTo>
                  <a:cubicBezTo>
                    <a:pt x="290" y="372"/>
                    <a:pt x="282" y="348"/>
                    <a:pt x="298" y="390"/>
                  </a:cubicBezTo>
                  <a:cubicBezTo>
                    <a:pt x="301" y="399"/>
                    <a:pt x="295" y="370"/>
                    <a:pt x="288" y="363"/>
                  </a:cubicBezTo>
                  <a:cubicBezTo>
                    <a:pt x="272" y="347"/>
                    <a:pt x="233" y="325"/>
                    <a:pt x="233" y="325"/>
                  </a:cubicBezTo>
                  <a:cubicBezTo>
                    <a:pt x="222" y="295"/>
                    <a:pt x="186" y="242"/>
                    <a:pt x="186" y="242"/>
                  </a:cubicBezTo>
                  <a:cubicBezTo>
                    <a:pt x="174" y="204"/>
                    <a:pt x="159" y="189"/>
                    <a:pt x="121" y="177"/>
                  </a:cubicBezTo>
                  <a:cubicBezTo>
                    <a:pt x="198" y="150"/>
                    <a:pt x="186" y="215"/>
                    <a:pt x="205" y="270"/>
                  </a:cubicBezTo>
                  <a:cubicBezTo>
                    <a:pt x="199" y="279"/>
                    <a:pt x="196" y="303"/>
                    <a:pt x="186" y="298"/>
                  </a:cubicBezTo>
                  <a:cubicBezTo>
                    <a:pt x="166" y="288"/>
                    <a:pt x="149" y="242"/>
                    <a:pt x="149" y="242"/>
                  </a:cubicBezTo>
                  <a:cubicBezTo>
                    <a:pt x="134" y="179"/>
                    <a:pt x="102" y="171"/>
                    <a:pt x="47" y="158"/>
                  </a:cubicBezTo>
                  <a:cubicBezTo>
                    <a:pt x="56" y="155"/>
                    <a:pt x="65" y="149"/>
                    <a:pt x="75" y="149"/>
                  </a:cubicBezTo>
                  <a:cubicBezTo>
                    <a:pt x="130" y="149"/>
                    <a:pt x="93" y="204"/>
                    <a:pt x="84" y="233"/>
                  </a:cubicBezTo>
                  <a:cubicBezTo>
                    <a:pt x="121" y="257"/>
                    <a:pt x="135" y="245"/>
                    <a:pt x="149" y="288"/>
                  </a:cubicBezTo>
                  <a:cubicBezTo>
                    <a:pt x="137" y="325"/>
                    <a:pt x="121" y="344"/>
                    <a:pt x="93" y="372"/>
                  </a:cubicBezTo>
                  <a:cubicBezTo>
                    <a:pt x="102" y="375"/>
                    <a:pt x="112" y="385"/>
                    <a:pt x="121" y="381"/>
                  </a:cubicBezTo>
                  <a:cubicBezTo>
                    <a:pt x="146" y="371"/>
                    <a:pt x="136" y="341"/>
                    <a:pt x="149" y="325"/>
                  </a:cubicBezTo>
                  <a:cubicBezTo>
                    <a:pt x="156" y="316"/>
                    <a:pt x="168" y="313"/>
                    <a:pt x="177" y="307"/>
                  </a:cubicBezTo>
                  <a:cubicBezTo>
                    <a:pt x="168" y="301"/>
                    <a:pt x="157" y="280"/>
                    <a:pt x="149" y="288"/>
                  </a:cubicBezTo>
                  <a:cubicBezTo>
                    <a:pt x="140" y="297"/>
                    <a:pt x="147" y="319"/>
                    <a:pt x="158" y="325"/>
                  </a:cubicBezTo>
                  <a:cubicBezTo>
                    <a:pt x="166" y="329"/>
                    <a:pt x="160" y="303"/>
                    <a:pt x="168" y="298"/>
                  </a:cubicBezTo>
                  <a:cubicBezTo>
                    <a:pt x="184" y="289"/>
                    <a:pt x="205" y="291"/>
                    <a:pt x="223" y="288"/>
                  </a:cubicBezTo>
                  <a:cubicBezTo>
                    <a:pt x="235" y="254"/>
                    <a:pt x="224" y="264"/>
                    <a:pt x="251" y="251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908000" y="3052800"/>
            <a:ext cx="865440" cy="1298520"/>
            <a:chOff x="1908000" y="3052800"/>
            <a:chExt cx="865440" cy="1298520"/>
          </a:xfrm>
        </p:grpSpPr>
        <p:sp>
          <p:nvSpPr>
            <p:cNvPr id="176" name=""/>
            <p:cNvSpPr/>
            <p:nvPr/>
          </p:nvSpPr>
          <p:spPr>
            <a:xfrm>
              <a:off x="2268360" y="4299120"/>
              <a:ext cx="505080" cy="52200"/>
            </a:xfrm>
            <a:custGeom>
              <a:avLst/>
              <a:gdLst/>
              <a:ahLst/>
              <a:rect l="l" t="t" r="r" b="b"/>
              <a:pathLst>
                <a:path w="318" h="33">
                  <a:moveTo>
                    <a:pt x="0" y="1"/>
                  </a:moveTo>
                  <a:cubicBezTo>
                    <a:pt x="25" y="2"/>
                    <a:pt x="97" y="0"/>
                    <a:pt x="150" y="5"/>
                  </a:cubicBezTo>
                  <a:cubicBezTo>
                    <a:pt x="203" y="10"/>
                    <a:pt x="283" y="27"/>
                    <a:pt x="318" y="33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08000" y="3052800"/>
              <a:ext cx="584280" cy="598320"/>
            </a:xfrm>
            <a:custGeom>
              <a:avLst/>
              <a:gdLst/>
              <a:ahLst/>
              <a:rect l="l" t="t" r="r" b="b"/>
              <a:pathLst>
                <a:path w="368" h="377">
                  <a:moveTo>
                    <a:pt x="0" y="377"/>
                  </a:moveTo>
                  <a:cubicBezTo>
                    <a:pt x="24" y="337"/>
                    <a:pt x="84" y="202"/>
                    <a:pt x="145" y="139"/>
                  </a:cubicBezTo>
                  <a:cubicBezTo>
                    <a:pt x="206" y="76"/>
                    <a:pt x="322" y="29"/>
                    <a:pt x="368" y="0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519200" y="2227320"/>
            <a:ext cx="2543040" cy="1400040"/>
            <a:chOff x="1519200" y="2227320"/>
            <a:chExt cx="2543040" cy="1400040"/>
          </a:xfrm>
        </p:grpSpPr>
        <p:sp>
          <p:nvSpPr>
            <p:cNvPr id="179" name=""/>
            <p:cNvSpPr/>
            <p:nvPr/>
          </p:nvSpPr>
          <p:spPr>
            <a:xfrm>
              <a:off x="3433680" y="2227320"/>
              <a:ext cx="471600" cy="304920"/>
            </a:xfrm>
            <a:custGeom>
              <a:avLst/>
              <a:gdLst/>
              <a:ahLst/>
              <a:rect l="l" t="t" r="r" b="b"/>
              <a:pathLst>
                <a:path w="998" h="518">
                  <a:moveTo>
                    <a:pt x="0" y="518"/>
                  </a:moveTo>
                  <a:cubicBezTo>
                    <a:pt x="11" y="270"/>
                    <a:pt x="160" y="159"/>
                    <a:pt x="281" y="84"/>
                  </a:cubicBezTo>
                  <a:cubicBezTo>
                    <a:pt x="402" y="9"/>
                    <a:pt x="607" y="0"/>
                    <a:pt x="726" y="65"/>
                  </a:cubicBezTo>
                  <a:cubicBezTo>
                    <a:pt x="845" y="130"/>
                    <a:pt x="977" y="223"/>
                    <a:pt x="998" y="473"/>
                  </a:cubicBezTo>
                  <a:cubicBezTo>
                    <a:pt x="606" y="493"/>
                    <a:pt x="271" y="502"/>
                    <a:pt x="0" y="518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92560" y="3073320"/>
              <a:ext cx="272880" cy="316080"/>
            </a:xfrm>
            <a:custGeom>
              <a:avLst/>
              <a:gdLst/>
              <a:ahLst/>
              <a:rect l="l" t="t" r="r" b="b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780000" y="3029040"/>
              <a:ext cx="282240" cy="341280"/>
            </a:xfrm>
            <a:custGeom>
              <a:avLst/>
              <a:gdLst/>
              <a:ahLst/>
              <a:rect l="l" t="t" r="r" b="b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19200" y="2400480"/>
              <a:ext cx="1825560" cy="1226880"/>
            </a:xfrm>
            <a:custGeom>
              <a:avLst/>
              <a:gdLst/>
              <a:ahLst/>
              <a:rect l="l" t="t" r="r" b="b"/>
              <a:pathLst>
                <a:path w="1150" h="773">
                  <a:moveTo>
                    <a:pt x="1150" y="0"/>
                  </a:moveTo>
                  <a:cubicBezTo>
                    <a:pt x="1047" y="27"/>
                    <a:pt x="721" y="31"/>
                    <a:pt x="529" y="160"/>
                  </a:cubicBezTo>
                  <a:cubicBezTo>
                    <a:pt x="337" y="289"/>
                    <a:pt x="110" y="645"/>
                    <a:pt x="0" y="773"/>
                  </a:cubicBezTo>
                </a:path>
              </a:pathLst>
            </a:custGeom>
            <a:noFill/>
            <a:ln w="63360">
              <a:solidFill>
                <a:srgbClr val="7bc143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952800" y="2639880"/>
            <a:ext cx="3376800" cy="1992600"/>
            <a:chOff x="3952800" y="2639880"/>
            <a:chExt cx="3376800" cy="1992600"/>
          </a:xfrm>
        </p:grpSpPr>
        <p:sp>
          <p:nvSpPr>
            <p:cNvPr id="184" name=""/>
            <p:cNvSpPr/>
            <p:nvPr/>
          </p:nvSpPr>
          <p:spPr>
            <a:xfrm>
              <a:off x="5292720" y="2736720"/>
              <a:ext cx="1004760" cy="1052640"/>
            </a:xfrm>
            <a:custGeom>
              <a:avLst/>
              <a:gdLst/>
              <a:ahLst/>
              <a:rect l="l" t="t" r="r" b="b"/>
              <a:pathLst>
                <a:path w="633" h="663">
                  <a:moveTo>
                    <a:pt x="633" y="78"/>
                  </a:moveTo>
                  <a:cubicBezTo>
                    <a:pt x="570" y="83"/>
                    <a:pt x="357" y="0"/>
                    <a:pt x="252" y="97"/>
                  </a:cubicBezTo>
                  <a:cubicBezTo>
                    <a:pt x="147" y="194"/>
                    <a:pt x="53" y="545"/>
                    <a:pt x="0" y="663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52800" y="2639880"/>
              <a:ext cx="687600" cy="1128960"/>
            </a:xfrm>
            <a:custGeom>
              <a:avLst/>
              <a:gdLst/>
              <a:ahLst/>
              <a:rect l="l" t="t" r="r" b="b"/>
              <a:pathLst>
                <a:path w="433" h="711">
                  <a:moveTo>
                    <a:pt x="433" y="711"/>
                  </a:moveTo>
                  <a:cubicBezTo>
                    <a:pt x="420" y="613"/>
                    <a:pt x="425" y="239"/>
                    <a:pt x="353" y="121"/>
                  </a:cubicBezTo>
                  <a:cubicBezTo>
                    <a:pt x="281" y="3"/>
                    <a:pt x="74" y="25"/>
                    <a:pt x="0" y="0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30680" y="3651120"/>
              <a:ext cx="619200" cy="552600"/>
            </a:xfrm>
            <a:custGeom>
              <a:avLst/>
              <a:gdLst/>
              <a:ahLst/>
              <a:rect l="l" t="t" r="r" b="b"/>
              <a:pathLst>
                <a:path w="390" h="348">
                  <a:moveTo>
                    <a:pt x="0" y="153"/>
                  </a:moveTo>
                  <a:cubicBezTo>
                    <a:pt x="45" y="133"/>
                    <a:pt x="204" y="0"/>
                    <a:pt x="269" y="32"/>
                  </a:cubicBezTo>
                  <a:cubicBezTo>
                    <a:pt x="334" y="64"/>
                    <a:pt x="365" y="282"/>
                    <a:pt x="390" y="348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15200" y="3760920"/>
              <a:ext cx="914400" cy="871560"/>
            </a:xfrm>
            <a:custGeom>
              <a:avLst/>
              <a:gdLst/>
              <a:ahLst/>
              <a:rect l="l" t="t" r="r" b="b"/>
              <a:pathLst>
                <a:path w="576" h="549">
                  <a:moveTo>
                    <a:pt x="0" y="502"/>
                  </a:moveTo>
                  <a:cubicBezTo>
                    <a:pt x="48" y="496"/>
                    <a:pt x="192" y="549"/>
                    <a:pt x="288" y="465"/>
                  </a:cubicBezTo>
                  <a:cubicBezTo>
                    <a:pt x="384" y="381"/>
                    <a:pt x="516" y="97"/>
                    <a:pt x="576" y="0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aettu ymmärrys: määritelm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hden ihmisen välillä on jaettu  ymmärrys tietystä aiheesta silloin, kun molemmat osaavat selittää mitä toinen ajattelee asiasta ja miks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ääritelmän voi laajentaa ryhmään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kainen osaa selittää mitä ajatuksia ja päätelmiä ryhmässä on asia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3800" indent="-24408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ätä ei tarvitse tietää yksilötaso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äytännössä tarvitaan yhdessä tehty kirjallinen kuvaus jaetusta ymmärryksest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akohtainen testi: Onko minun ajatteluni kuvattu kirjallisessa kuvauksessa kaikilta olennaisilta osiltaan? Onko se käsitelty asianmukaisesti päätelmiä kirjoitettaes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5906880" cy="59644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aettu ymmärrys: kaavio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5876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Pohjola MV et al: Food and Chemical Toxicology. 2011. In p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voin arviointi erityistilanteissa: periaatte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ti avataan Opasnetiin sivu, jota käytetään ensisijaisena viestintäkanava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vulle sovitaan ylläpitäjä, joka vastaa siitä että sivu pysyy teknisesti ja luettavuudeltaan kunnossa ja sisältää kaiken ylläpitäjälle tuleen tied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stuuviranomaiset laittavat (laitattavat) kaiken tietonsa sivulle luettavak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leisölle annetaan mahdollisuus tuoda oma tietämyksensä sivul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rvittaessa pääsivu suojataan ja keskustelut käydään keskustelusivu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Opasnet-verkkotyötil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184320"/>
            <a:ext cx="914400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Opasnetin muokkaustil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ärkeimmät wikin muotoilusäännö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vaa erityistilannesivu pikaisesti vain tekstin kopiointia ja tallennusta varte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ppalevaihto: kaksi rivivaihtoa peräkkä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=Otsikko=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Numeroimaton 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# Numeroitu 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Kappaleen sisenn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’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havointi’’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ki toiseen Opasnet-sivuun: [[Sivun nimi]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ki www-sivuun: [http://www.sivusto.fi/main.html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Opasnetin kommentointikentt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4:27:14Z</dcterms:created>
  <dc:creator>Jouni Tuomisto</dc:creator>
  <dc:description/>
  <dc:language>en-US</dc:language>
  <cp:lastModifiedBy>Jouni Tuomisto</cp:lastModifiedBy>
  <dcterms:modified xsi:type="dcterms:W3CDTF">2011-11-01T09:50:37Z</dcterms:modified>
  <cp:revision>19</cp:revision>
  <dc:subject/>
  <dc:title>Avoin mallitus. Esimerkkinä liikenteen muutosten päästövaikutukset ja sairastuvuus</dc:title>
</cp:coreProperties>
</file>